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BAA-CB4F-4094-893C-F876D01F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DD7-CDC5-4A6C-B319-0B3E516B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6FA-B2F8-457B-B19F-319F4FDC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E0B-77F4-4F7E-B257-93A2E31B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FD1-7EC9-4BB3-8FE2-643B827F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291-212F-47E7-B142-F457A221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185-0BE1-4F02-B8B0-D5871BB8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317-EB37-4F7A-9723-34090E66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BE6-F72A-4A78-9424-F69E2D21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6E8-62EC-4FB4-82F1-928BAF4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68F-A0D5-4098-9FC7-06D72069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496-1D00-4875-B371-1CB73E4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D61A-A359-44C2-BCD4-1F40CF31C7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4:16:25Z</dcterms:created>
  <dc:creator>Grupo Editorial</dc:creator>
  <dc:description/>
  <dc:language>en-US</dc:language>
  <cp:lastModifiedBy>TORRES</cp:lastModifiedBy>
  <dcterms:modified xsi:type="dcterms:W3CDTF">2010-12-18T22:19:05Z</dcterms:modified>
  <cp:revision>2</cp:revision>
  <dc:subject/>
  <dc:title>Sin título de diapositiva</dc:title>
</cp:coreProperties>
</file>